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ADAA-420E-4F1A-AC1F-B698EFEB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E8C-BF64-4DB8-B5E4-957A5F32DCE6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-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9591-0E08-4A4A-9FCE-3856C016C362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ich Site summary created 1999.  Richardson calls it a new killer app, but tech not new, just its use in edu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51 Warlick  says it may very well be the most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ing is like subscribing to a newspaper or magazine no need to go get it.  Just like netflicks vs. blockbu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88E-9BD3-4577-8509-E05E4C54A0A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EAC-5B26-435C-AA6D-391B76D003BD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3C = World Wide Web Consort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B40A-89C1-4252-BFB8-DFB8F11EC774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141-806F-4135-8385-AEEC7C71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445-E31E-41D0-A7F5-212C55A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F36B0-BB87-46C6-8C71-0F8E68B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52AF2-576F-4A6C-85B1-0F9261D8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13E48-F86B-45A6-A206-F97CCF9E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38EF3-7FDF-48EC-AAB1-528739C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A47F7-B9EF-445F-A41B-E0C0CA7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4C52B-BCC6-40E8-A8ED-F636BD6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38E19-19C6-4DA0-97D6-295A507E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38D0A-0742-4A47-9BEE-E4E318EB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EDED9-69E0-486A-BE68-D6F9CD9D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629AB-7F60-4389-9E88-10428586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506-1247-47BD-967D-DBF84699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7EF3B-50F5-47D2-ADB2-7C74CF60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F8B5B-C1C3-4301-B320-8A157E43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78C9C-5C27-4253-8217-0915D63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066BC-D795-4D2D-A723-C95CE39E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EBB0F-2F63-4571-A20D-43072E5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79A1A-A0BC-4502-94AA-F53E88F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CD0DF-9BEF-40DE-8AE8-EF44153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9F592-2360-4F94-94D1-F2E0EA1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14DDB-310C-4B26-823B-38C6BA7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F3355-CB1C-44AC-A901-BC5062B9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3E4-9C24-4474-92FA-56DD4BF7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49544-18C9-46FE-BB16-C114CF98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2D948-24D7-4013-82E2-FF317F79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078AF-B810-4A63-94EF-24ACBD6F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D177-5A15-4A7F-AE75-A7F36F7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E7577-C457-4221-BBEC-EACFC53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7E8D4-7C07-434E-80CF-EECA652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07B7B-3B5F-45DD-9FDB-AE953C40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F9D1D-EFDA-4C43-BBB5-2BFE0A5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1B43F-1116-45C6-843B-48F6E5B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71D3C-5585-487A-AD27-11A92D64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C853-53B8-4C41-B0BF-00C75147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F665E-6906-47A5-9A04-1F886E3B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E4ECF-CAEB-48ED-9B79-CE7F2A0D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2CD9-DB24-480B-AF2C-FC8937F3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115B6-7581-42AA-ACD5-6E587DCB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6EDFD-2028-45DE-AE53-F1046874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EA190-0977-49B8-A13F-95C3B475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8D71D-DCAB-43B0-BEB1-CF9350DC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B8D8D-454A-4EBE-98D1-636120A2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404AB-1BFA-41A2-A741-448F7E6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EB227-BD67-4AE1-A257-B2DBEEA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4BD3-D0AC-4163-A17D-4C1A0205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3B603-3B60-43C5-B5CA-CE7C396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48962-C8FA-4EC1-8897-7713B1E3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DA588-84B3-4BF2-B1A7-AC501CAA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1891E-FC47-4905-BAB4-E659FE0B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27252-A9A1-4564-A969-D5D3FEB6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3ACF8-3D92-4239-BA9D-5F505EBB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7D457-D5D0-4FF4-BA91-B0A628B3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7D3D8-A61E-45CC-8FBE-073BA05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B1E65-4EB6-4E2D-87AE-F62C7D64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EFC0E-A461-4721-BE48-B3B2448A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BC55-0D02-4D0E-BF29-D722F09A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E1F9A-9987-4286-A5F8-3ED9436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520EA-031F-4AB5-B611-BF3A4F2B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9633B-FEA2-4378-B318-DBEA9A3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1F13F-932A-4807-9600-520CD05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53E74-1CAE-403C-B5A0-1FC8F46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909AF-6D71-49E5-9767-42E19D72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9A739-5103-4AEE-9493-B08BF660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949-5A56-4E18-B52E-F76D058E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4E9-D003-4082-B93C-0FD3BB44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E95E-96B1-43E7-AA46-581977C2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046F-7D3F-48DE-A486-98C56BB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B10-DFB0-4DCC-BC29-082D84C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353E-2CAD-4BF0-B689-6E39AE9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4D98-6FC0-48BE-8EF4-72C2476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8A5-3F9D-4FE1-BDDA-17DED8DE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2E2-915C-41EF-ABD4-ED78BC1A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2C43-85DE-4BF9-95D9-BAE4080A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F3F3-2164-4814-B52B-A7DA0687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3A10-9C54-46FB-88D7-8BA01204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E123-AA6D-4CF2-8909-BF47CCF6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B2BC-22D0-411C-9201-76B2D65A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B545-5156-4D6C-8073-D98B69AF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0F9-378B-433F-9A43-AC8EA57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291C-B78D-4ACD-B37C-5F949C7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AD62-EA5E-4514-8DD2-D64A05D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6861-FB23-4F73-890F-1848FBF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88CB-C223-43BE-8A2C-A4019F5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7230-1344-492E-9C3F-DB5FDD3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6007-36D0-4CB5-966F-D50B1982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D5A8-627A-438B-AD47-5CF2ED64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9E6F-3CCF-4837-8FB2-B5B169F0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2BBE-6CA6-41DE-B6A3-5918898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15AB-1DC4-4941-83FF-32F8674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CFA-ACB9-4FE0-BC08-F5CD2B3F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58E7-2B37-4392-9635-65CE68D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CD5D-1CB2-4694-BEF8-BD74663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0BF0-6E50-4091-A4B9-251E0CE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C6C3-D08B-4B13-82D3-83C3FCC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DBCA-C188-4AF2-B76C-902E1FC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7344-B78A-493B-88CE-981F904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EE99-D19A-49ED-B000-34624D07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3816-C98C-448B-AC11-CD5BE15C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3D11-615D-41AF-8424-FDA4CEAF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DE24-1EF6-4CA9-9F3A-2EEF760C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E74-8790-4DE0-8F75-B3FE85C0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943A-4BAA-42C5-A799-00760022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AEC2-D1E0-4B18-95A8-A937FB11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783D-A523-49EA-B9A0-5C3BFEE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A7F8-6DFA-4289-93E3-4C37078B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13B0E-1C39-4C65-815B-2C544209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BB2D-4818-4207-9BE9-A9CD0C3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ECF7-BE5D-4C84-BCE7-19A7535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518A7-7F17-4EEF-B7B1-07ACA08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B91B-3CFA-4D63-9131-A7A29E8F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8990-85C9-4209-B778-EC810AEF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819-4682-4889-B7CC-6C73F5BF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7BC5-C753-4FF2-8DF5-58C8E7A3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F06CF-DE23-4DD2-8031-FA5808B5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BF72-415E-4C45-B6D7-130348F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F26D-A466-4DF2-8F83-92C81404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DC12B-81A2-4238-A5E1-27F76587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AB6A-C39E-4C53-A533-E918A977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9BE1-8904-44F7-8E27-D01AB9F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44E6-84A0-4F4C-85FE-BFF4055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BA00-A988-4B20-B38C-D32B396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9F926-7974-45C3-904D-FAE5499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75B-6CF1-44AC-BDC9-D9F0C3D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A5D4-6A68-4241-B068-6B76625C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F0F4-77D1-492F-800F-B66410A6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A9D2A-9886-4D83-BBE9-9ABCD347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49C3-A97B-4EED-A10C-6F5F374E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182C-5048-4D3C-B115-47EE292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D6879-DC1C-49BA-AB1C-AAEB2674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86E1-DFE0-4480-8F42-6C6B8F4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51684-CBA3-4511-BDDC-009469C7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9BAA1-CC11-4EEB-A53D-37E00AD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514D-9ED4-41A2-B247-A353772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201-DA5D-4620-AC11-B624E76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5E7A-BACD-4E4F-BEA4-A098E25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D485-1F98-4B24-B04D-ED0EADA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D0A8-1E59-4D96-838B-39EFCCA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1EBC-ABF3-4E9E-8A78-715FA17B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C2979-C252-4AC2-9F60-CD9B0563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3145C-3755-43C8-81B3-D3A2053B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24746-735E-426D-B7B9-0859E21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1F74E-8368-44CD-BC24-C87C8FC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F703-ED46-4F1B-83C2-97EE1CDC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4993B-F0D2-4C8E-9FD1-C8B86174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026-17C6-4E00-9F70-55C221E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0D9BD-E28D-4D0B-856A-AB10D15F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CF26D-0418-4152-8661-42F29C1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3CA9-EC38-46BF-9ED0-18C0239D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3DBF-8A50-420F-A137-F7AFFD0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073A-B7D9-4EEE-AA73-B4B5064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A59A-C729-4F92-9032-FFA13C6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DFCFB-2763-46CB-86DA-99637A85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399C-2070-4BE5-A138-30ABE874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60D85-6547-41AA-8CB5-A56D74F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11539-09CF-4683-8776-38076428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1B5E-24FB-417E-BEFE-114FBF63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028F-6C59-4FCB-9380-A3DB51536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C61-14A2-406D-98DF-81719E58A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39B-191F-4E21-ABEB-0B67B5789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C9C7-4088-47CF-A875-B1E6ABD565B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DD7-E3E9-4194-8AAB-D7133771D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634-7DBE-41AD-9B49-813777E28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796B-201E-453B-B4A0-E3737D891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217-2407-4896-92EB-DCAFDAAE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130-0396-4FAD-B766-88A2E6ECD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FA07-6175-4999-B181-7E5B826E5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6A5-FC0E-44D0-B411-47F08028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881-3C56-4ADB-BA8C-03B9628E6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RSS: Really Simple Syndica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  <p:pic>
        <p:nvPicPr>
          <p:cNvPr id="543" name="msjWeb2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SS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SS (Really Simple Syndication):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 format for aggregating Web content in one pla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ing the content to you. News feeds: (NPR, Current Events, sports articles)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llect most any Web content as it is updated including podcasts and Blo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ubscribing” sets you up for receiving updated content,  bringing the Web to you, saving you time!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SS uses X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eed Reader / Aggreg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eed reader, or aggregator, picks up the RSS fee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oogle Reader, Yahoo Pipes, Bloglin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uilt in to Blogg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rowsers have them built in but the disadvantage is no portabil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SSMix can combine fee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XML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stands for E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nsible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rkup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guag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is a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arkup languag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much like HTM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was designed to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arry data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, not to display data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tags are not predefined. You must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fine your own tags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is designed to be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lf-descriptiv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is a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3C Recommend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80808"/>
                </a:solidFill>
                <a:latin typeface="Tahoma"/>
              </a:rPr>
              <a:t>Retrieved from: http://www.w3schools.com/xml/xml_whatis.asp 10/03/07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inks for RSS and XM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www.w3schools.com/xml/xml_whatis.asp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www.w3schools.com/xml/xml_usedfor.asp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en.wikipedia.org/wiki/Rss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en.wikipedia.org/wiki/Aggregato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You’ll find so many just searching or using Wikipedia 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54:07Z</dcterms:modified>
  <cp:revision>97</cp:revision>
  <dc:subject/>
  <dc:title>R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